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B20E8-1241-4DC0-BE57-91EBE2AB3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93CD4-3534-4E43-B384-3CB1F9A88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5AE23-3220-4E78-946A-EE7CB49BC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74489-B250-4906-82AD-0E3B17747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BCB63-F4BB-4934-85DF-E86510422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DF0A6-8078-4494-924D-40A769000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D04AD-6D1B-405D-BB5B-AFE5026CB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2D42F-7D2A-46B0-BE13-307F93FA3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440" y="1676160"/>
            <a:ext cx="7010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B2D67-26BC-42E0-8593-5255BA9E4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1D61E-D7B9-4AD2-8840-C91166828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0EE2A-BDFC-4EE4-A548-DD82DEA2C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99FED-8ABE-4C25-BF79-002EFE5C4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1FB37-803C-441F-9FCE-77878B17F25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1" descr=""/>
          <p:cNvPicPr/>
          <p:nvPr/>
        </p:nvPicPr>
        <p:blipFill>
          <a:blip r:embed="rId2"/>
          <a:stretch/>
        </p:blipFill>
        <p:spPr>
          <a:xfrm>
            <a:off x="8604360" y="4915080"/>
            <a:ext cx="247680" cy="1180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4"/>
          <p:cNvSpPr/>
          <p:nvPr/>
        </p:nvSpPr>
        <p:spPr>
          <a:xfrm>
            <a:off x="762120" y="533520"/>
            <a:ext cx="474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Learning Objec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5"/>
          <p:cNvSpPr/>
          <p:nvPr/>
        </p:nvSpPr>
        <p:spPr>
          <a:xfrm>
            <a:off x="755640" y="1341360"/>
            <a:ext cx="7924680" cy="35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is PowerPoint file contains some Learning Objectives for this chapter in </a:t>
            </a:r>
            <a:r>
              <a:rPr b="0" i="1" lang="en-GB" sz="2000" spc="-1" strike="noStrike">
                <a:solidFill>
                  <a:srgbClr val="333399"/>
                </a:solidFill>
                <a:latin typeface="Arial"/>
              </a:rPr>
              <a:t>Physics For You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nly a limited amount of colour has been used on these slides, 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ut of course you can customise them in any way you wis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 well as introducing each lesson with the relevant slide, and 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sing the slide to summarise at the end of the lesson, you may 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 find the slides useful for a quick revision cour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 that you can tell when to stop clicking, the last line (only) on 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ach slide has a full stop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18"/>
          <p:cNvSpPr/>
          <p:nvPr/>
        </p:nvSpPr>
        <p:spPr>
          <a:xfrm>
            <a:off x="762120" y="380880"/>
            <a:ext cx="6705360" cy="12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pter 24 : Curved Mirr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ou should learn:</a:t>
            </a:r>
            <a:r>
              <a:rPr b="0" lang="en-GB" sz="2800" spc="-1" strike="noStrike">
                <a:solidFill>
                  <a:srgbClr val="000000"/>
                </a:solidFill>
                <a:latin typeface="Swis721 Md BT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9"/>
          <p:cNvSpPr/>
          <p:nvPr/>
        </p:nvSpPr>
        <p:spPr>
          <a:xfrm>
            <a:off x="762120" y="1828800"/>
            <a:ext cx="7772400" cy="40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8800" indent="-388800">
              <a:spcBef>
                <a:spcPts val="2001"/>
              </a:spcBef>
              <a:tabLst>
                <a:tab algn="l" pos="0"/>
                <a:tab algn="l" pos="388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oncav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mirror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8800" indent="-388800">
              <a:spcBef>
                <a:spcPts val="400"/>
              </a:spcBef>
              <a:buClr>
                <a:srgbClr val="ff0000"/>
              </a:buClr>
              <a:buSzPct val="120000"/>
              <a:buFont typeface="Arial"/>
              <a:buChar char="•"/>
              <a:tabLst>
                <a:tab algn="l" pos="388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ke light rays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onver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8800" indent="-388800">
              <a:spcBef>
                <a:spcPts val="400"/>
              </a:spcBef>
              <a:buClr>
                <a:srgbClr val="ff0000"/>
              </a:buClr>
              <a:buSzPct val="120000"/>
              <a:buFont typeface="Arial"/>
              <a:buChar char="•"/>
              <a:tabLst>
                <a:tab algn="l" pos="388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y form erect or inverted im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8800" indent="-388800">
              <a:spcBef>
                <a:spcPts val="400"/>
              </a:spcBef>
              <a:buClr>
                <a:srgbClr val="ff0000"/>
              </a:buClr>
              <a:buSzPct val="120000"/>
              <a:buFont typeface="Arial"/>
              <a:buChar char="•"/>
              <a:tabLst>
                <a:tab algn="l" pos="388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y form magnified im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8800" indent="-388800">
              <a:spcBef>
                <a:spcPts val="2001"/>
              </a:spcBef>
              <a:tabLst>
                <a:tab algn="l" pos="0"/>
                <a:tab algn="l" pos="388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onvex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mirror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8800" indent="-388800">
              <a:spcBef>
                <a:spcPts val="400"/>
              </a:spcBef>
              <a:buClr>
                <a:srgbClr val="333399"/>
              </a:buClr>
              <a:buSzPct val="120000"/>
              <a:buFont typeface="Arial"/>
              <a:buChar char="•"/>
              <a:tabLst>
                <a:tab algn="l" pos="388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ke light rays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diver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8800" indent="-388800">
              <a:spcBef>
                <a:spcPts val="400"/>
              </a:spcBef>
              <a:buClr>
                <a:srgbClr val="333399"/>
              </a:buClr>
              <a:buSzPct val="120000"/>
              <a:buFont typeface="Arial"/>
              <a:buChar char="•"/>
              <a:tabLst>
                <a:tab algn="l" pos="388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ive a ‘wide angle’ vie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9" dur="1" fill="hold"/>
                                  <p:tgtEl>
                                    <p:spTgt spid="45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5"/>
          <p:cNvSpPr/>
          <p:nvPr/>
        </p:nvSpPr>
        <p:spPr>
          <a:xfrm>
            <a:off x="8388360" y="2781360"/>
            <a:ext cx="576360" cy="3816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7T10:29:50Z</dcterms:created>
  <dc:creator>Keith Johnson (c)   www.timetabler.com</dc:creator>
  <dc:description>Show Full Screen, via &lt;F5&gt;, or right-click with mouse.</dc:description>
  <cp:keywords>GCSE Physics  (c) Keith and Ann Johnson</cp:keywords>
  <dc:language>en-US</dc:language>
  <cp:lastModifiedBy>Keith</cp:lastModifiedBy>
  <dcterms:modified xsi:type="dcterms:W3CDTF">2017-04-21T19:15:03Z</dcterms:modified>
  <cp:revision>13</cp:revision>
  <dc:subject>Physics for You Support File</dc:subject>
  <dc:title>Physics for You</dc:title>
</cp:coreProperties>
</file>