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879-B66C-45D0-87A9-D5C9FECC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2CF-5ADD-4599-8050-5C31C40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167-7209-4BB1-866D-92D0F2E3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E0E-4838-4026-8C99-79C8EBA7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6CA-D352-4E74-926A-8865B59C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CA4-9965-4E47-8F73-E0DD0D3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CC6-9B5B-4C0E-B779-387D5AB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99B-C5DB-4064-B68F-7CCF13A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36B-BA5A-4707-B71C-2B489315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4E9-87F3-4AEB-B47B-18E42A4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147-0264-45B1-9B6F-F3FE3A8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844-304E-44A2-9125-1B029D68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873-2BA2-4E62-811E-A8F6911562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74872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4 – Curved Mi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4 : Curved Mi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21bMinidish-small"/>
          <p:cNvPicPr/>
          <p:nvPr/>
        </p:nvPicPr>
        <p:blipFill>
          <a:blip r:embed="rId1"/>
          <a:stretch/>
        </p:blipFill>
        <p:spPr>
          <a:xfrm>
            <a:off x="4643280" y="1052640"/>
            <a:ext cx="3729240" cy="3038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611280" y="1197000"/>
            <a:ext cx="403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his reflector concave or convex?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ketch a ray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4267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his the same type of reflector used for shop security mirrors?  Expla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4 : Curved Mi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21bMinidish-small"/>
          <p:cNvPicPr/>
          <p:nvPr/>
        </p:nvPicPr>
        <p:blipFill>
          <a:blip r:embed="rId1"/>
          <a:stretch/>
        </p:blipFill>
        <p:spPr>
          <a:xfrm>
            <a:off x="4643280" y="1052640"/>
            <a:ext cx="3729240" cy="3038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11280" y="1197000"/>
            <a:ext cx="403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his reflector concave or convex?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ketch a ray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11280" y="4267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this the same type of reflector used for shop security mirrors?  Expla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068480" y="155736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nc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4227480" y="928800"/>
            <a:ext cx="3224160" cy="2265120"/>
            <a:chOff x="4227480" y="928800"/>
            <a:chExt cx="3224160" cy="2265120"/>
          </a:xfrm>
        </p:grpSpPr>
        <p:sp>
          <p:nvSpPr>
            <p:cNvPr id="56" name="Freeform 9"/>
            <p:cNvSpPr/>
            <p:nvPr/>
          </p:nvSpPr>
          <p:spPr>
            <a:xfrm>
              <a:off x="5770440" y="928800"/>
              <a:ext cx="1681200" cy="628560"/>
            </a:xfrm>
            <a:custGeom>
              <a:avLst/>
              <a:gdLst/>
              <a:ahLst/>
              <a:rect l="l" t="t" r="r" b="b"/>
              <a:pathLst>
                <a:path w="1059" h="396">
                  <a:moveTo>
                    <a:pt x="0" y="0"/>
                  </a:moveTo>
                  <a:lnTo>
                    <a:pt x="1059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4227480" y="2158920"/>
              <a:ext cx="2530440" cy="1035000"/>
            </a:xfrm>
            <a:custGeom>
              <a:avLst/>
              <a:gdLst/>
              <a:ahLst/>
              <a:rect l="l" t="t" r="r" b="b"/>
              <a:pathLst>
                <a:path w="1594" h="652">
                  <a:moveTo>
                    <a:pt x="0" y="0"/>
                  </a:moveTo>
                  <a:lnTo>
                    <a:pt x="1594" y="6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905440" y="1573200"/>
            <a:ext cx="1500120" cy="1589040"/>
            <a:chOff x="5905440" y="1573200"/>
            <a:chExt cx="1500120" cy="1589040"/>
          </a:xfrm>
        </p:grpSpPr>
        <p:sp>
          <p:nvSpPr>
            <p:cNvPr id="59" name="Freeform 12"/>
            <p:cNvSpPr/>
            <p:nvPr/>
          </p:nvSpPr>
          <p:spPr>
            <a:xfrm>
              <a:off x="5921280" y="1573200"/>
              <a:ext cx="1484280" cy="94464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935" y="0"/>
                  </a:moveTo>
                  <a:lnTo>
                    <a:pt x="0" y="5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5905440" y="2577960"/>
              <a:ext cx="885960" cy="584280"/>
            </a:xfrm>
            <a:custGeom>
              <a:avLst/>
              <a:gdLst/>
              <a:ahLst/>
              <a:rect l="l" t="t" r="r" b="b"/>
              <a:pathLst>
                <a:path w="558" h="368">
                  <a:moveTo>
                    <a:pt x="558" y="36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4"/>
          <p:cNvSpPr/>
          <p:nvPr/>
        </p:nvSpPr>
        <p:spPr>
          <a:xfrm>
            <a:off x="1085760" y="50450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.   Shop security mirrors are convex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o give a wide-angle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4-22T16:38:36Z</dcterms:modified>
  <cp:revision>42</cp:revision>
  <dc:subject>Physics for You Support File</dc:subject>
  <dc:title>Physics for You</dc:title>
</cp:coreProperties>
</file>